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828E-AAEE-495D-888A-9D63A2BF5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6675-6F89-4183-B76D-D7B43195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BA63-C0F8-4C34-8BC5-D74F063E6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A586-ACAE-4581-9724-5C89E89C1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4D93-4603-427E-B477-0170179F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A878-6405-495A-8855-0EEAD3A9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FD85-D9EF-4397-B532-41E125D8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EB46-3C41-4305-BB1B-0116E83A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9064-5DEE-417E-8786-055B0CF8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E1AE-87DB-4355-B005-2ABC8C4C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49FB-337F-45A5-ADC3-7329F049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9CC2-3B9B-44C3-A477-9B28BE24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63B2-9D06-4289-9E23-398FA80D8C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571680"/>
            <a:ext cx="7315200" cy="5646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038480" y="3124080"/>
            <a:ext cx="685800" cy="30492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3429000"/>
            <a:ext cx="99036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68360" y="6172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6ff"/>
                </a:solidFill>
                <a:latin typeface="Arial"/>
              </a:rPr>
              <a:t>本楼在小区内的位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2362320"/>
            <a:ext cx="685800" cy="7617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22096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69960" y="20080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9999"/>
                </a:solidFill>
                <a:latin typeface="Arial"/>
              </a:rPr>
              <a:t>休闲广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82360" y="396252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9999"/>
                </a:solidFill>
                <a:latin typeface="Arial"/>
              </a:rPr>
              <a:t>学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82360" y="3657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9999"/>
                </a:solidFill>
                <a:latin typeface="Arial"/>
              </a:rPr>
              <a:t>操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3581280"/>
            <a:ext cx="533520" cy="2286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9999"/>
                </a:solidFill>
                <a:latin typeface="Arial"/>
              </a:rPr>
              <a:t>矮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7467120" y="1447920"/>
            <a:ext cx="685800" cy="3808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048160" y="12193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9999"/>
                </a:solidFill>
                <a:latin typeface="Arial"/>
              </a:rPr>
              <a:t>小区大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0120" y="3808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848720" y="3808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19280" y="0"/>
            <a:ext cx="317880" cy="368280"/>
          </a:xfrm>
          <a:prstGeom prst="rect">
            <a:avLst/>
          </a:prstGeom>
          <a:solidFill>
            <a:srgbClr val="e6fd07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762120" y="304920"/>
            <a:ext cx="6781680" cy="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762120" y="457200"/>
            <a:ext cx="6781680" cy="7632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79440" y="2509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685800" y="411444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720" y="3276720"/>
            <a:ext cx="606600" cy="18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地势为南高北低缓下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6553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82080" y="61722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西高东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60320" y="213372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9999"/>
                </a:solidFill>
                <a:latin typeface="Arial"/>
              </a:rPr>
              <a:t>幼儿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14240" y="2286000"/>
            <a:ext cx="362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9999"/>
                </a:solidFill>
                <a:latin typeface="Arial"/>
              </a:rPr>
              <a:t>某机械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77320" y="3808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776360" y="1974240"/>
            <a:ext cx="3628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9999"/>
                </a:solidFill>
                <a:latin typeface="Arial"/>
              </a:rPr>
              <a:t>立交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776360" y="526320"/>
            <a:ext cx="3628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9999"/>
                </a:solidFill>
                <a:latin typeface="Arial"/>
              </a:rPr>
              <a:t>立交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3080" y="2362320"/>
            <a:ext cx="317880" cy="368280"/>
          </a:xfrm>
          <a:prstGeom prst="rect">
            <a:avLst/>
          </a:prstGeom>
          <a:solidFill>
            <a:srgbClr val="e6fd07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81200" y="655308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小区前身为一座小山，小区建在山坡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140440" cy="546732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4014720" y="228600"/>
            <a:ext cx="317880" cy="368280"/>
          </a:xfrm>
          <a:prstGeom prst="rect">
            <a:avLst/>
          </a:prstGeom>
          <a:solidFill>
            <a:srgbClr val="e6fd07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38400" y="6095880"/>
            <a:ext cx="317880" cy="368280"/>
          </a:xfrm>
          <a:prstGeom prst="rect">
            <a:avLst/>
          </a:prstGeom>
          <a:solidFill>
            <a:srgbClr val="e6fd07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71520" y="2971800"/>
            <a:ext cx="317880" cy="368280"/>
          </a:xfrm>
          <a:prstGeom prst="rect">
            <a:avLst/>
          </a:prstGeom>
          <a:solidFill>
            <a:srgbClr val="e6fd07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86600" y="2895480"/>
            <a:ext cx="412920" cy="368280"/>
          </a:xfrm>
          <a:prstGeom prst="rect">
            <a:avLst/>
          </a:prstGeom>
          <a:solidFill>
            <a:srgbClr val="e6fd07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44720" y="24876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Arial"/>
              </a:rPr>
              <a:t>大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54200" y="15732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Arial"/>
              </a:rPr>
              <a:t>厨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87520" y="33256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Arial"/>
              </a:rPr>
              <a:t>厕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54200" y="31734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Arial"/>
              </a:rPr>
              <a:t>客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78240" y="41641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Arial"/>
              </a:rPr>
              <a:t>卧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11200" y="42400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Arial"/>
              </a:rPr>
              <a:t>卧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63840" y="52308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Arial"/>
              </a:rPr>
              <a:t>阳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4114800"/>
            <a:ext cx="76212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4114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410080" y="365760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47600" y="35053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99"/>
                </a:solidFill>
                <a:latin typeface="Arial"/>
              </a:rPr>
              <a:t>人工隔断木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91120" y="2971800"/>
            <a:ext cx="22860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274320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57280" y="25146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Arial"/>
              </a:rPr>
              <a:t>马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05520" y="4495680"/>
            <a:ext cx="685800" cy="4572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Arial"/>
              </a:rPr>
              <a:t>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91320" y="4419720"/>
            <a:ext cx="0" cy="6094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4648320"/>
            <a:ext cx="685800" cy="4572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Arial"/>
              </a:rPr>
              <a:t>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4572000"/>
            <a:ext cx="0" cy="6094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2819520"/>
            <a:ext cx="380880" cy="7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410080" y="236232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615720" y="21826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99"/>
                </a:solidFill>
                <a:latin typeface="Arial"/>
              </a:rPr>
              <a:t>人工隔断鞋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486400" y="121896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68480" y="10396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99"/>
                </a:solidFill>
                <a:latin typeface="Arial"/>
              </a:rPr>
              <a:t>打通无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05520" y="1066680"/>
            <a:ext cx="759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1066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91120" y="838080"/>
            <a:ext cx="48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99"/>
                </a:solidFill>
                <a:latin typeface="Arial"/>
              </a:rPr>
              <a:t>炉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971800" y="5181120"/>
            <a:ext cx="8380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58600" y="55357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99"/>
                </a:solidFill>
                <a:latin typeface="Arial"/>
              </a:rPr>
              <a:t>打通无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6080" y="6222960"/>
            <a:ext cx="79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楼层：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4724280"/>
            <a:ext cx="0" cy="304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29720" y="487692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9999"/>
                </a:solidFill>
                <a:latin typeface="Arial"/>
              </a:rPr>
              <a:t>空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638680" y="3886200"/>
            <a:ext cx="152640" cy="22860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4038480"/>
            <a:ext cx="33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9999"/>
                </a:solidFill>
                <a:latin typeface="Arial"/>
              </a:rPr>
              <a:t>空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5714640" y="4038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52880" y="2971800"/>
            <a:ext cx="3812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3276720"/>
            <a:ext cx="33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9999"/>
                </a:solidFill>
                <a:latin typeface="Arial"/>
              </a:rPr>
              <a:t>电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3886200"/>
            <a:ext cx="609840" cy="152280"/>
          </a:xfrm>
          <a:prstGeom prst="rect">
            <a:avLst/>
          </a:prstGeom>
          <a:solidFill>
            <a:srgbClr val="f5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衣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4191120"/>
            <a:ext cx="76320" cy="380880"/>
          </a:xfrm>
          <a:prstGeom prst="rect">
            <a:avLst/>
          </a:prstGeom>
          <a:solidFill>
            <a:srgbClr val="f5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80160" y="41911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Arial"/>
              </a:rPr>
              <a:t>写字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140440" cy="5467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938400" y="228600"/>
            <a:ext cx="317880" cy="368280"/>
          </a:xfrm>
          <a:prstGeom prst="rect">
            <a:avLst/>
          </a:prstGeom>
          <a:solidFill>
            <a:srgbClr val="e6fd07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14720" y="6248520"/>
            <a:ext cx="317880" cy="368280"/>
          </a:xfrm>
          <a:prstGeom prst="rect">
            <a:avLst/>
          </a:prstGeom>
          <a:solidFill>
            <a:srgbClr val="e6fd07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71520" y="2971800"/>
            <a:ext cx="317880" cy="368280"/>
          </a:xfrm>
          <a:prstGeom prst="rect">
            <a:avLst/>
          </a:prstGeom>
          <a:solidFill>
            <a:srgbClr val="e6fd07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86600" y="2895480"/>
            <a:ext cx="412920" cy="368280"/>
          </a:xfrm>
          <a:prstGeom prst="rect">
            <a:avLst/>
          </a:prstGeom>
          <a:solidFill>
            <a:srgbClr val="e6fd07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4720" y="24876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Arial"/>
              </a:rPr>
              <a:t>大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54200" y="15732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Arial"/>
              </a:rPr>
              <a:t>厨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87520" y="33256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Arial"/>
              </a:rPr>
              <a:t>厕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54200" y="31734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Arial"/>
              </a:rPr>
              <a:t>客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88320" y="41371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9999"/>
                </a:solidFill>
                <a:latin typeface="Arial"/>
              </a:rPr>
              <a:t>卧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01120" y="426708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9999"/>
                </a:solidFill>
                <a:latin typeface="Arial"/>
              </a:rPr>
              <a:t>卧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53760" y="52578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9999"/>
                </a:solidFill>
                <a:latin typeface="Arial"/>
              </a:rPr>
              <a:t>阳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4114800"/>
            <a:ext cx="76212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76920" y="4114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562720" y="365760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47600" y="35053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99"/>
                </a:solidFill>
                <a:latin typeface="Arial"/>
              </a:rPr>
              <a:t>人工隔断木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2971800"/>
            <a:ext cx="22860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274320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57280" y="25146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Arial"/>
              </a:rPr>
              <a:t>马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4495680"/>
            <a:ext cx="685800" cy="4572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Arial"/>
              </a:rPr>
              <a:t>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4419720"/>
            <a:ext cx="0" cy="6094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4648320"/>
            <a:ext cx="685800" cy="4572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9999"/>
                </a:solidFill>
                <a:latin typeface="Arial"/>
              </a:rPr>
              <a:t>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81280" y="4572000"/>
            <a:ext cx="0" cy="6094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05520" y="2819520"/>
            <a:ext cx="380880" cy="7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410080" y="236232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15720" y="21826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99"/>
                </a:solidFill>
                <a:latin typeface="Arial"/>
              </a:rPr>
              <a:t>人工隔断鞋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486400" y="121896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68480" y="10396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99"/>
                </a:solidFill>
                <a:latin typeface="Arial"/>
              </a:rPr>
              <a:t>打通无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05520" y="1066680"/>
            <a:ext cx="759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48320" y="1066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43400" y="914400"/>
            <a:ext cx="48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99"/>
                </a:solidFill>
                <a:latin typeface="Arial"/>
              </a:rPr>
              <a:t>炉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048120" y="525780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58600" y="55357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99"/>
                </a:solidFill>
                <a:latin typeface="Arial"/>
              </a:rPr>
              <a:t>打通无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05320" y="762120"/>
            <a:ext cx="0" cy="541008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200400" y="9907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609480"/>
            <a:ext cx="0" cy="541044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609480"/>
            <a:ext cx="0" cy="541044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609480"/>
            <a:ext cx="0" cy="541044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276720" y="2438280"/>
            <a:ext cx="32004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429000" y="4038480"/>
            <a:ext cx="32004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429000" y="5638680"/>
            <a:ext cx="32004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azhang</cp:lastModifiedBy>
  <dcterms:modified xsi:type="dcterms:W3CDTF">2008-05-06T03:36:20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