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4E0-0D8F-45E7-AB2A-576BA483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BE11-BC8B-4373-B7C8-D87E80E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D6AA-1278-490C-85E9-9410627E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6567-F887-4584-AABE-51A89B3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8F92-B260-44C8-A2EA-41A74F3D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3F17-49BC-4AD8-AD02-B25DF3E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E28E-05FC-48AC-AA11-0E4B9C02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9C77-F57C-4990-983D-60ECBC4D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E1E-E957-498E-9D42-0797C09E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63EA-5031-422A-9F8D-F9EB423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4CEB-DF97-445E-91B9-CD659E4A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CA6-56A4-46BD-BA2D-7FF1B656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28C1-89BE-42BA-8C54-F801A47513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14400" y="571680"/>
            <a:ext cx="7315200" cy="5646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038480" y="3124080"/>
            <a:ext cx="685800" cy="304920"/>
          </a:xfrm>
          <a:prstGeom prst="ellipse">
            <a:avLst/>
          </a:prstGeom>
          <a:noFill/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3429000"/>
            <a:ext cx="99036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68360" y="617220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ff"/>
                </a:solidFill>
                <a:latin typeface="Arial"/>
              </a:rPr>
              <a:t>本楼在小区内的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2362320"/>
            <a:ext cx="685800" cy="761760"/>
          </a:xfrm>
          <a:prstGeom prst="rect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220968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69960" y="20080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休闲广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8236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82360" y="3657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操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3581280"/>
            <a:ext cx="533520" cy="2286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矮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7467120" y="1447920"/>
            <a:ext cx="685800" cy="3808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048160" y="12193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小区大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01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48720" y="3808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19280" y="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762120" y="304920"/>
            <a:ext cx="6781680" cy="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762120" y="457200"/>
            <a:ext cx="6781680" cy="76320"/>
          </a:xfrm>
          <a:prstGeom prst="line">
            <a:avLst/>
          </a:prstGeom>
          <a:ln w="936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79440" y="2509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85800" y="411444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720" y="3276720"/>
            <a:ext cx="606600" cy="18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地势为南高北低缓下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6553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2080" y="617220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西高东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60320" y="213372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幼儿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4240" y="2286000"/>
            <a:ext cx="362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某机械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380880"/>
            <a:ext cx="0" cy="541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6360" y="197424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76360" y="526320"/>
            <a:ext cx="362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立交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3080" y="23623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81200" y="65530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小区前身为一座小山，小区建在山坡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01472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38400" y="609588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78240" y="41641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11200" y="42400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63840" y="5230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410080" y="365760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83808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71800" y="5181120"/>
            <a:ext cx="8380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6080" y="6222960"/>
            <a:ext cx="79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层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4724280"/>
            <a:ext cx="0" cy="3049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29720" y="48769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638680" y="3962520"/>
            <a:ext cx="152640" cy="22860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038480"/>
            <a:ext cx="3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空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714640" y="403812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52480" y="685800"/>
            <a:ext cx="5140440" cy="5467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938400" y="2286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14720" y="624852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71520" y="2971800"/>
            <a:ext cx="31788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086600" y="2895480"/>
            <a:ext cx="412920" cy="368280"/>
          </a:xfrm>
          <a:prstGeom prst="rect">
            <a:avLst/>
          </a:prstGeom>
          <a:solidFill>
            <a:srgbClr val="e6fd0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4720" y="2487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大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54200" y="15732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厨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87520" y="332568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厕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54200" y="31734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客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88320" y="41371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01120" y="42670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卧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53760" y="5257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阳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4114800"/>
            <a:ext cx="76212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76920" y="4114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562720" y="36576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447600" y="35053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木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91120" y="2971800"/>
            <a:ext cx="22860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7432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57280" y="25146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马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449568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4419720"/>
            <a:ext cx="0" cy="60948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4648320"/>
            <a:ext cx="685800" cy="4572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9999"/>
                </a:solidFill>
                <a:latin typeface="Arial"/>
              </a:rPr>
              <a:t>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4572000"/>
            <a:ext cx="0" cy="609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05520" y="2819520"/>
            <a:ext cx="38088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10080" y="2362320"/>
            <a:ext cx="10670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15720" y="21826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人工隔断鞋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486400" y="121896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68480" y="103968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066680"/>
            <a:ext cx="759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1066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914400"/>
            <a:ext cx="48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炉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048120" y="5257800"/>
            <a:ext cx="838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658600" y="553572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99"/>
                </a:solidFill>
                <a:latin typeface="Arial"/>
              </a:rPr>
              <a:t>打通无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762120"/>
            <a:ext cx="0" cy="541008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00400" y="9907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91320" y="609480"/>
            <a:ext cx="0" cy="54104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276720" y="24382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429000" y="40384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429000" y="5638680"/>
            <a:ext cx="320040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azhang</cp:lastModifiedBy>
  <dcterms:modified xsi:type="dcterms:W3CDTF">2008-05-05T09:49:57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